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4B51-FCB6-4F23-8E79-70B07A98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D125-CB11-46A4-992F-17F74737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7223-363A-4C6D-83BA-CAC54042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95F4-88BB-41FE-A0AC-AE0548DB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F3C4-0009-432A-839B-6162F564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EEC-4836-4076-8392-50E06CFB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EFA5-147E-4095-89CC-05B8D489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9682-4D66-4AAE-AC4D-517C2B06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638D-C574-4C96-A52C-C4ABBC4C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36B1-D226-46AE-B4F1-67DCA413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BCFE-3EAD-413E-92E6-5408F546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637DD-F681-47BC-B2BB-5E5564F4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DA03-0FDC-4744-AB92-E9947854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E59-BF83-45BF-BEB0-3976D308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4908-9AAF-4289-A8F3-4E84286E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D123-3A51-4A4A-B02E-022AAE30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F94D-15C4-47F9-B254-86C7A583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5178-A587-44E7-A025-CB712B98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C37C-047F-44E4-B1F7-A6B96DC7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F021-F891-48F8-84DA-5999E9B8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97DC-0DBB-4538-A91C-DD50033E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C0B1-6FFF-4732-8FC8-26BDCD42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F7EDD-71DD-4433-9151-FAAD7E79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F36FB-11C7-4940-9A36-41007E27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2002-5F83-4FD8-A0A7-606C5F287FD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8DD5-75F0-44A7-9D46-8EEFD759808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52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9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0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На непорочний Агнец, Спасител мой и Цар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злагам аз греха с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тежкий му товар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как ме съжаля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ойта слепо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е освобожд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ях и от смърт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, тоз Божи Агнец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нас вси бе разпна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 волно Той понес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ха на целий свя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чудна Божия милост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мрял е Той за м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ез грях бе Той осъд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аз, грешник, спас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злагам на Исус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воля и тъг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слабостите Т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Церител всяког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слаб съм и във нужд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знай ми болест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омощ аз намир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Него в пълно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елая да прилич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рез Божия благода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Господа Исуса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ирен, тих, кротък, свя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с Него да живе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небесен дом и аз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небесен лик да пе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 на моя Спас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38:14Z</dcterms:modified>
  <cp:revision>63</cp:revision>
  <dc:subject/>
  <dc:title>Slide 1</dc:title>
</cp:coreProperties>
</file>